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4216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79040" y="162720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492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4216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79040" y="4148280"/>
            <a:ext cx="279684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36360" y="399600"/>
            <a:ext cx="705636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56320" y="414828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6360" y="332280"/>
            <a:ext cx="7056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320" y="1627200"/>
            <a:ext cx="42390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148280"/>
            <a:ext cx="86868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adgerlink.ne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33920" y="4600080"/>
            <a:ext cx="5410080" cy="1676520"/>
          </a:xfrm>
          <a:prstGeom prst="rect">
            <a:avLst/>
          </a:prstGeom>
          <a:solidFill>
            <a:srgbClr val="912911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bscription Databases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Redouane Sabbar</a:t>
            </a: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Library Media Specialist @ Franklin High School</a:t>
            </a: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05120" y="76320"/>
            <a:ext cx="7162560" cy="12189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Boolea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cats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</a:rPr>
              <a:t>AN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dogs)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</a:rPr>
              <a:t>O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fish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1371600"/>
            <a:ext cx="3733560" cy="36576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1447920"/>
            <a:ext cx="3657600" cy="3504960"/>
          </a:xfrm>
          <a:prstGeom prst="ellipse">
            <a:avLst/>
          </a:prstGeom>
          <a:solidFill>
            <a:srgbClr val="e1a061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3124080"/>
            <a:ext cx="3733560" cy="36576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1676520"/>
            <a:ext cx="1752480" cy="1752480"/>
          </a:xfrm>
          <a:custGeom>
            <a:avLst/>
            <a:gdLst/>
            <a:ahLst/>
            <a:rect l="l" t="t" r="r" b="b"/>
            <a:pathLst>
              <a:path w="1104" h="1104">
                <a:moveTo>
                  <a:pt x="576" y="0"/>
                </a:moveTo>
                <a:lnTo>
                  <a:pt x="768" y="133"/>
                </a:lnTo>
                <a:cubicBezTo>
                  <a:pt x="823" y="182"/>
                  <a:pt x="863" y="233"/>
                  <a:pt x="906" y="294"/>
                </a:cubicBezTo>
                <a:cubicBezTo>
                  <a:pt x="949" y="355"/>
                  <a:pt x="969" y="370"/>
                  <a:pt x="1024" y="498"/>
                </a:cubicBezTo>
                <a:cubicBezTo>
                  <a:pt x="1079" y="626"/>
                  <a:pt x="1069" y="647"/>
                  <a:pt x="1079" y="699"/>
                </a:cubicBezTo>
                <a:lnTo>
                  <a:pt x="1104" y="864"/>
                </a:lnTo>
                <a:lnTo>
                  <a:pt x="1104" y="1056"/>
                </a:lnTo>
                <a:lnTo>
                  <a:pt x="0" y="1104"/>
                </a:lnTo>
                <a:lnTo>
                  <a:pt x="0" y="912"/>
                </a:lnTo>
                <a:lnTo>
                  <a:pt x="18" y="727"/>
                </a:lnTo>
                <a:lnTo>
                  <a:pt x="55" y="571"/>
                </a:lnTo>
                <a:lnTo>
                  <a:pt x="119" y="425"/>
                </a:lnTo>
                <a:lnTo>
                  <a:pt x="201" y="315"/>
                </a:lnTo>
                <a:lnTo>
                  <a:pt x="311" y="178"/>
                </a:lnTo>
                <a:lnTo>
                  <a:pt x="448" y="69"/>
                </a:lnTo>
                <a:lnTo>
                  <a:pt x="576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124080"/>
            <a:ext cx="3733560" cy="365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5334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7400" y="151920"/>
            <a:ext cx="6934320" cy="114300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651e0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lex Boolea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cats </a:t>
            </a:r>
            <a:r>
              <a:rPr b="1" lang="en-US" sz="32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dogs) </a:t>
            </a:r>
            <a:r>
              <a:rPr b="1" lang="en-US" sz="32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BUT NO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s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371600"/>
            <a:ext cx="3733560" cy="36576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1447920"/>
            <a:ext cx="3657600" cy="3504960"/>
          </a:xfrm>
          <a:prstGeom prst="ellipse">
            <a:avLst/>
          </a:prstGeom>
          <a:solidFill>
            <a:srgbClr val="e1a061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19520" y="3124080"/>
            <a:ext cx="3733560" cy="36576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5334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48240" y="1676520"/>
            <a:ext cx="1761840" cy="1752480"/>
          </a:xfrm>
          <a:custGeom>
            <a:avLst/>
            <a:gdLst/>
            <a:ahLst/>
            <a:rect l="l" t="t" r="r" b="b"/>
            <a:pathLst>
              <a:path w="1110" h="1104">
                <a:moveTo>
                  <a:pt x="582" y="0"/>
                </a:moveTo>
                <a:lnTo>
                  <a:pt x="672" y="54"/>
                </a:lnTo>
                <a:lnTo>
                  <a:pt x="822" y="192"/>
                </a:lnTo>
                <a:lnTo>
                  <a:pt x="900" y="294"/>
                </a:lnTo>
                <a:lnTo>
                  <a:pt x="972" y="408"/>
                </a:lnTo>
                <a:lnTo>
                  <a:pt x="1026" y="522"/>
                </a:lnTo>
                <a:lnTo>
                  <a:pt x="1065" y="651"/>
                </a:lnTo>
                <a:lnTo>
                  <a:pt x="1098" y="774"/>
                </a:lnTo>
                <a:lnTo>
                  <a:pt x="1110" y="912"/>
                </a:lnTo>
                <a:lnTo>
                  <a:pt x="1110" y="1008"/>
                </a:lnTo>
                <a:lnTo>
                  <a:pt x="966" y="960"/>
                </a:lnTo>
                <a:lnTo>
                  <a:pt x="819" y="918"/>
                </a:lnTo>
                <a:lnTo>
                  <a:pt x="678" y="912"/>
                </a:lnTo>
                <a:lnTo>
                  <a:pt x="558" y="915"/>
                </a:lnTo>
                <a:lnTo>
                  <a:pt x="438" y="930"/>
                </a:lnTo>
                <a:lnTo>
                  <a:pt x="342" y="951"/>
                </a:lnTo>
                <a:lnTo>
                  <a:pt x="234" y="990"/>
                </a:lnTo>
                <a:lnTo>
                  <a:pt x="150" y="1032"/>
                </a:lnTo>
                <a:lnTo>
                  <a:pt x="81" y="1065"/>
                </a:lnTo>
                <a:lnTo>
                  <a:pt x="6" y="1104"/>
                </a:lnTo>
                <a:lnTo>
                  <a:pt x="0" y="966"/>
                </a:lnTo>
                <a:lnTo>
                  <a:pt x="6" y="816"/>
                </a:lnTo>
                <a:lnTo>
                  <a:pt x="24" y="726"/>
                </a:lnTo>
                <a:lnTo>
                  <a:pt x="54" y="624"/>
                </a:lnTo>
                <a:lnTo>
                  <a:pt x="90" y="510"/>
                </a:lnTo>
                <a:lnTo>
                  <a:pt x="141" y="402"/>
                </a:lnTo>
                <a:lnTo>
                  <a:pt x="210" y="297"/>
                </a:lnTo>
                <a:lnTo>
                  <a:pt x="282" y="216"/>
                </a:lnTo>
                <a:lnTo>
                  <a:pt x="348" y="150"/>
                </a:lnTo>
                <a:cubicBezTo>
                  <a:pt x="372" y="129"/>
                  <a:pt x="405" y="104"/>
                  <a:pt x="429" y="87"/>
                </a:cubicBezTo>
                <a:cubicBezTo>
                  <a:pt x="450" y="69"/>
                  <a:pt x="468" y="64"/>
                  <a:pt x="492" y="48"/>
                </a:cubicBezTo>
                <a:lnTo>
                  <a:pt x="582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83400" cy="97164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uncation or Wild C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m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 will result in finding wom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 and wom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ll result in finding teach, teach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each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each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ach</a:t>
            </a:r>
            <a:r>
              <a:rPr b="0" lang="en-US" sz="44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553080" cy="114300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rases vs. Grouped Wor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strial revolution</a:t>
            </a:r>
            <a:r>
              <a:rPr b="1" lang="en-US" sz="54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”</a:t>
            </a:r>
            <a:r>
              <a:rPr b="0" lang="en-US" sz="32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searched as a phrase and  will not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ken ap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strial or inventions or technology or machine</a:t>
            </a:r>
            <a:r>
              <a:rPr b="1" lang="en-US" sz="44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revol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earch engine will search for 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any of the words within parenthe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he word 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revolu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main Nam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for com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0d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.ed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for educ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fo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0d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.m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for 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n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or companies providing networking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r>
              <a:rPr b="0" lang="en-US" sz="2800" spc="-1" strike="noStrike">
                <a:solidFill>
                  <a:srgbClr val="a00d02"/>
                </a:solidFill>
                <a:latin typeface="Arial"/>
                <a:ea typeface="ＭＳ Ｐゴシック"/>
              </a:rPr>
              <a:t>or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for non-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6782040" cy="91440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b Site Evalu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th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ur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where the information comes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lin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 out the source of th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cccc00"/>
                </a:solidFill>
                <a:latin typeface="Arial"/>
                <a:ea typeface="ＭＳ Ｐゴシック"/>
              </a:rPr>
              <a:t>homep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ren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is currency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was the information originally presen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often is it upd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was it last rev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the link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tho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uthor’s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ple c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6378480" cy="7617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iabil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4320"/>
            <a:ext cx="86868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ant to know whether the links work and whether the site will be around next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2e7a28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difference between subscription databases and public domai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online search methods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reliable information from databases into lesson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56360" cy="83808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the purpose of the s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persu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in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expla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302160" cy="91440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pth of Coverag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you find information specific to your topic and is it well explained and ci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834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ase of 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the page well desig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you tell what to do when you get there or for whom the pages are inten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there unnecessary anim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the background enhance or distract from the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6834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arching for Artic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best sources for articles that are reliable is one of the professional databases available on  </a:t>
            </a:r>
            <a:r>
              <a:rPr b="0" lang="en-US" sz="2800" spc="-1" strike="noStrike" u="sng">
                <a:solidFill>
                  <a:srgbClr val="a8756f"/>
                </a:solidFill>
                <a:uFillTx/>
                <a:latin typeface="Arial"/>
                <a:ea typeface="ＭＳ Ｐゴシック"/>
                <a:hlinkClick r:id="rId2"/>
              </a:rPr>
              <a:t>www.badgerlink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2e7a28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dgerli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26840"/>
            <a:ext cx="86868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ate-wide DPI initiative that allow Wisconsin residents to access a select number of important subscription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qual acces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nline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ources for Wisconsin res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PI currently contracts with five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S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son Ga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paperARCH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ingBoo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38200" y="4300560"/>
            <a:ext cx="944892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51e0c"/>
                </a:solidFill>
                <a:latin typeface="Arial"/>
                <a:ea typeface="ＭＳ Ｐゴシック"/>
              </a:rPr>
              <a:t>Electronic Research </a:t>
            </a:r>
            <a:br>
              <a:rPr sz="4000"/>
            </a:br>
            <a:r>
              <a:rPr b="1" lang="en-US" sz="4000" spc="-1" strike="noStrike">
                <a:solidFill>
                  <a:srgbClr val="651e0c"/>
                </a:solidFill>
                <a:latin typeface="Arial"/>
                <a:ea typeface="ＭＳ Ｐゴシック"/>
              </a:rPr>
              <a:t>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solidFill>
            <a:srgbClr val="336600"/>
          </a:solidFill>
          <a:ln w="9360">
            <a:solidFill>
              <a:srgbClr val="3366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olean Search Logic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NOT or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ncation and Wild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522840" cy="762120"/>
          </a:xfrm>
          <a:prstGeom prst="rect">
            <a:avLst/>
          </a:prstGeom>
          <a:solidFill>
            <a:srgbClr val="00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oolean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A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4572000" cy="43434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1676520"/>
            <a:ext cx="4647960" cy="4495680"/>
          </a:xfrm>
          <a:prstGeom prst="ellipse">
            <a:avLst/>
          </a:prstGeom>
          <a:solidFill>
            <a:srgbClr val="e1a061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581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581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2362320"/>
            <a:ext cx="1155600" cy="3016080"/>
          </a:xfrm>
          <a:custGeom>
            <a:avLst/>
            <a:gdLst/>
            <a:ahLst/>
            <a:rect l="l" t="t" r="r" b="b"/>
            <a:pathLst>
              <a:path w="728" h="1900">
                <a:moveTo>
                  <a:pt x="352" y="40"/>
                </a:moveTo>
                <a:cubicBezTo>
                  <a:pt x="282" y="80"/>
                  <a:pt x="164" y="328"/>
                  <a:pt x="107" y="472"/>
                </a:cubicBezTo>
                <a:cubicBezTo>
                  <a:pt x="50" y="616"/>
                  <a:pt x="22" y="769"/>
                  <a:pt x="11" y="904"/>
                </a:cubicBezTo>
                <a:cubicBezTo>
                  <a:pt x="0" y="1039"/>
                  <a:pt x="15" y="1157"/>
                  <a:pt x="41" y="1283"/>
                </a:cubicBezTo>
                <a:cubicBezTo>
                  <a:pt x="67" y="1409"/>
                  <a:pt x="119" y="1559"/>
                  <a:pt x="169" y="1658"/>
                </a:cubicBezTo>
                <a:cubicBezTo>
                  <a:pt x="219" y="1757"/>
                  <a:pt x="272" y="1900"/>
                  <a:pt x="342" y="1878"/>
                </a:cubicBezTo>
                <a:cubicBezTo>
                  <a:pt x="412" y="1856"/>
                  <a:pt x="528" y="1636"/>
                  <a:pt x="587" y="1528"/>
                </a:cubicBezTo>
                <a:cubicBezTo>
                  <a:pt x="646" y="1420"/>
                  <a:pt x="677" y="1361"/>
                  <a:pt x="699" y="1229"/>
                </a:cubicBezTo>
                <a:cubicBezTo>
                  <a:pt x="721" y="1097"/>
                  <a:pt x="728" y="868"/>
                  <a:pt x="717" y="735"/>
                </a:cubicBezTo>
                <a:cubicBezTo>
                  <a:pt x="706" y="602"/>
                  <a:pt x="667" y="517"/>
                  <a:pt x="635" y="433"/>
                </a:cubicBezTo>
                <a:cubicBezTo>
                  <a:pt x="603" y="349"/>
                  <a:pt x="572" y="297"/>
                  <a:pt x="525" y="232"/>
                </a:cubicBezTo>
                <a:cubicBezTo>
                  <a:pt x="478" y="167"/>
                  <a:pt x="422" y="0"/>
                  <a:pt x="352" y="40"/>
                </a:cubicBezTo>
                <a:close/>
              </a:path>
            </a:pathLst>
          </a:custGeom>
          <a:solidFill>
            <a:srgbClr val="c33314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04812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s and 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378480" cy="76212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oolean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133720"/>
            <a:ext cx="3733920" cy="36576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209680"/>
            <a:ext cx="3657600" cy="3505320"/>
          </a:xfrm>
          <a:prstGeom prst="ellipse">
            <a:avLst/>
          </a:prstGeom>
          <a:solidFill>
            <a:srgbClr val="e1a061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73392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23880" y="2133720"/>
            <a:ext cx="5638680" cy="3657600"/>
            <a:chOff x="1523880" y="2133720"/>
            <a:chExt cx="5638680" cy="3657600"/>
          </a:xfrm>
        </p:grpSpPr>
        <p:sp>
          <p:nvSpPr>
            <p:cNvPr id="98" name=""/>
            <p:cNvSpPr/>
            <p:nvPr/>
          </p:nvSpPr>
          <p:spPr>
            <a:xfrm>
              <a:off x="1523880" y="2133720"/>
              <a:ext cx="3733560" cy="3657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04960" y="2210040"/>
              <a:ext cx="3657600" cy="3505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3657960"/>
              <a:ext cx="358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cats or dogs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2133720"/>
            <a:ext cx="3733560" cy="36576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2133720"/>
            <a:ext cx="3733560" cy="365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6912000" cy="83808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oolean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BUT NOT/NO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209680"/>
            <a:ext cx="3657600" cy="3505320"/>
          </a:xfrm>
          <a:prstGeom prst="ellipse">
            <a:avLst/>
          </a:prstGeom>
          <a:solidFill>
            <a:srgbClr val="e1a06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3429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76320"/>
            <a:ext cx="7086600" cy="121896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lex Boolea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ts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an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dogs </a:t>
            </a:r>
            <a:r>
              <a:rPr b="1" lang="en-US" sz="3600" spc="-1" strike="noStrike">
                <a:solidFill>
                  <a:srgbClr val="c3fc0c"/>
                </a:solidFill>
                <a:latin typeface="Arial"/>
                <a:ea typeface="ＭＳ Ｐゴシック"/>
              </a:rPr>
              <a:t>and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is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1371600"/>
            <a:ext cx="3733560" cy="3657600"/>
          </a:xfrm>
          <a:prstGeom prst="ellipse">
            <a:avLst/>
          </a:prstGeom>
          <a:solidFill>
            <a:srgbClr val="00cc00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447920"/>
            <a:ext cx="3657600" cy="3504960"/>
          </a:xfrm>
          <a:prstGeom prst="ellipse">
            <a:avLst/>
          </a:prstGeom>
          <a:solidFill>
            <a:srgbClr val="e1a061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t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6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gs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124080"/>
            <a:ext cx="3733560" cy="36576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3124080"/>
            <a:ext cx="1752480" cy="1622520"/>
          </a:xfrm>
          <a:custGeom>
            <a:avLst/>
            <a:gdLst/>
            <a:ahLst/>
            <a:rect l="l" t="t" r="r" b="b"/>
            <a:pathLst>
              <a:path w="1104" h="1022">
                <a:moveTo>
                  <a:pt x="0" y="192"/>
                </a:moveTo>
                <a:lnTo>
                  <a:pt x="192" y="96"/>
                </a:lnTo>
                <a:lnTo>
                  <a:pt x="357" y="25"/>
                </a:lnTo>
                <a:lnTo>
                  <a:pt x="528" y="0"/>
                </a:lnTo>
                <a:lnTo>
                  <a:pt x="720" y="0"/>
                </a:lnTo>
                <a:lnTo>
                  <a:pt x="923" y="25"/>
                </a:lnTo>
                <a:lnTo>
                  <a:pt x="1104" y="96"/>
                </a:lnTo>
                <a:lnTo>
                  <a:pt x="1070" y="272"/>
                </a:lnTo>
                <a:lnTo>
                  <a:pt x="1033" y="437"/>
                </a:lnTo>
                <a:lnTo>
                  <a:pt x="969" y="546"/>
                </a:lnTo>
                <a:lnTo>
                  <a:pt x="912" y="672"/>
                </a:lnTo>
                <a:lnTo>
                  <a:pt x="832" y="784"/>
                </a:lnTo>
                <a:lnTo>
                  <a:pt x="686" y="912"/>
                </a:lnTo>
                <a:lnTo>
                  <a:pt x="585" y="1022"/>
                </a:lnTo>
                <a:lnTo>
                  <a:pt x="448" y="930"/>
                </a:lnTo>
                <a:lnTo>
                  <a:pt x="336" y="816"/>
                </a:lnTo>
                <a:lnTo>
                  <a:pt x="240" y="720"/>
                </a:lnTo>
                <a:lnTo>
                  <a:pt x="144" y="576"/>
                </a:lnTo>
                <a:lnTo>
                  <a:pt x="82" y="473"/>
                </a:lnTo>
                <a:lnTo>
                  <a:pt x="48" y="336"/>
                </a:lnTo>
                <a:lnTo>
                  <a:pt x="0" y="19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5334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5800" y="32004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s dogs fis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8-08-25T19:21:40Z</cp:lastPrinted>
  <dcterms:modified xsi:type="dcterms:W3CDTF">2009-06-18T20:26:35Z</dcterms:modified>
  <cp:revision>83</cp:revision>
  <dc:subject/>
  <dc:title>PowerPoint Template</dc:title>
</cp:coreProperties>
</file>